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8C7-A81E-4E2B-A987-1354B8EC4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IS MON AM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29C-A314-4ECC-8A05-8CD21455AC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noasterea istoriei, obiceiurilor si traditiile unei tari ne ajuta sa ne imbogatim cunostintele pe care le putem folosi apoi in viata cotidi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3C35-8948-4E4F-9F39-E08EB694B7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zentarea este o incursiune in cultura si civilizatia Frantei in cadrul unui circuit turistic, cu scopul de a cunoaste si aprofunda cunostintele despre centrul si monumentele Paris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AFD3-042E-487E-85AD-1B0E065668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ul Eiffel a fost construit intre 1887-1889, masoara 324 m si isi schimba inaltimea de cateva ori pe an, din cauza dilatarii aliajului. Necesita 70 tone de vopsea o data la 7 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19A-B8CE-431F-98F5-0F9FA01358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Turn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una dintre principalele destinaţii turistice ale Parisului şi lumii, cu mai mult de 5,5 milioane de vizitatori anual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iecare ora fixa turnul se lumineaza pentru 10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8B2D-5F51-4BA0-AC14-2946181D51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vrul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este cel mai mare muzeu de istorie şi artă din Franţ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Adaposteste cele mai importante opere de arta din 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E849-41F2-4347-A08E-3E3868009E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4FA-8610-44D2-B4E8-F035E885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AD1-6E85-443C-951D-287A61B3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003-9AD6-4585-9CC0-1EF19161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B5E-AE21-4345-901F-BFF9F9B9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1199-D52A-437A-B55B-AF0A99A4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55E0B-9D37-4A0F-B582-7E01106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E0BB0-096B-4BE1-B84F-1EBA701A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4E3F0-29ED-4912-BF0F-A298576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5DAF2-C960-4D96-A11B-8DCD3419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B9360-E97B-452D-A7AD-ED1F37D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5FD48-F7EF-4E75-BBE5-EE3B0DA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73C-22DD-45B8-8064-E2D3E662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7085-58C6-495A-AE22-6BA6639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0F48-A458-4A35-84B6-EF3EEC8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6BE5-1E4E-44E5-9C33-5B83655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5C98B-50E8-455A-A707-7AC4F20C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489D-1C5B-4E76-BEDD-379E9EA7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2A2-1EA5-47CE-8963-55E425E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664-F778-4BBF-8B4B-3A142E76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0E9-9389-42CC-BA5E-FE7713B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308-1897-47DE-ABD1-ED23D72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B86-1A94-427E-A251-E90655E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5EC-A897-4804-9234-6E7A55C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E87-BB09-47D7-A175-E73DBE2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E39B-D490-493E-AD73-BF8BA295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355-2CD9-4C2B-A5CB-3A8E3ACA83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929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7621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PARIS MON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AMO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rande-arche-pari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-685800" y="533520"/>
            <a:ext cx="9369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ladimir Script"/>
              </a:rPr>
              <a:t>LA DEFENSE  este cel mai modern cartier af Parisului. </a:t>
            </a:r>
            <a:r>
              <a:rPr b="0" lang="ro-RO" sz="2800" spc="-1" strike="noStrike">
                <a:solidFill>
                  <a:srgbClr val="ff0066"/>
                </a:solidFill>
                <a:latin typeface="Vladimir Script"/>
              </a:rPr>
              <a:t>Peste 60 de opere artistice contemporane fac din La Défense un muzeu în aer lib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ARCHE031"/>
          <p:cNvPicPr/>
          <p:nvPr/>
        </p:nvPicPr>
        <p:blipFill>
          <a:blip r:embed="rId2"/>
          <a:stretch/>
        </p:blipFill>
        <p:spPr>
          <a:xfrm>
            <a:off x="457200" y="0"/>
            <a:ext cx="8686800" cy="7391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45720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Catedrala Notre Dame din Paris este vizitată de circa 13 milioane de persoane annual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. </a:t>
            </a: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De proporții impozante, 130 m lungime, 45 m lățime, 35 m înălțime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, </a:t>
            </a:r>
            <a:r>
              <a:rPr b="1" i="1" lang="ro-RO" sz="2000" spc="-1" strike="noStrike">
                <a:solidFill>
                  <a:srgbClr val="ff0066"/>
                </a:solidFill>
                <a:latin typeface="Arial Unicode MS"/>
              </a:rPr>
              <a:t>Notre-Dame este considerată cea mai întunecată catedrală dintre marile catedrale gotice</a:t>
            </a:r>
            <a:r>
              <a:rPr b="1" i="1" lang="en-US" sz="2000" spc="-1" strike="noStrike">
                <a:solidFill>
                  <a:srgbClr val="ff0066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eiffel-tower-lb5[1]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-22860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Turnul Eiffel a fost construit intre 1887-1889, </a:t>
            </a:r>
            <a:r>
              <a:rPr b="0" lang="it-IT" sz="2400" spc="-1" strike="noStrike">
                <a:solidFill>
                  <a:srgbClr val="ffffff"/>
                </a:solidFill>
                <a:latin typeface="Rockwell Condensed"/>
              </a:rPr>
              <a:t>in onoarea centenarului Revolutiei franceze, </a:t>
            </a:r>
            <a:r>
              <a:rPr b="0" lang="en-US" sz="2400" spc="-1" strike="noStrike">
                <a:solidFill>
                  <a:srgbClr val="ffffff"/>
                </a:solidFill>
                <a:latin typeface="Rockwell Condensed"/>
              </a:rPr>
              <a:t>masoara 324 m si isi schimba inaltimea de cateva ori pe an, din cauza dilatarii aliajului. Necesita 70 tone de vopsea o data la 7 a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eiffel-tower-night-xds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28600" y="22860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Turn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Tahoma"/>
              </a:rPr>
              <a:t>este una dintre principalele destinaţii turistice ale Parisului şi lumii, cu mai mult de 5,5 milioane de vizitatori an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iecare ora fixa turnul se lumineaza pentru 10 minu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louvre-pyramid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819520" y="5105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vrul </a:t>
            </a:r>
            <a:r>
              <a:rPr b="0" lang="vi-VN" sz="2400" spc="-1" strike="noStrike">
                <a:solidFill>
                  <a:srgbClr val="ffffff"/>
                </a:solidFill>
                <a:latin typeface="Tahoma"/>
              </a:rPr>
              <a:t>este cel mai mare muzeu de istorie şi artă din Franţ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Adaposteste cele mai importante opere de arta din lu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34:49Z</dcterms:created>
  <dc:creator>sabin&amp;lumi</dc:creator>
  <dc:description/>
  <dc:language>en-US</dc:language>
  <cp:lastModifiedBy>elev1</cp:lastModifiedBy>
  <dcterms:modified xsi:type="dcterms:W3CDTF">2010-09-01T11:11:56Z</dcterms:modified>
  <cp:revision>18</cp:revision>
  <dc:subject/>
  <dc:title>Slide 1</dc:title>
</cp:coreProperties>
</file>